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A54-41B1-475E-A639-4D58292C4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FAD-F8BF-47BA-9B7C-A6173444F9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C9B-56F6-4844-99C6-E71C3DD21A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40A-44A7-4B2D-BE58-E1C37603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8DB-D735-4EB5-8346-77E5DAD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33D-213A-4FD4-B256-8E1DD9BC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A80-89D6-4C7F-819B-22F7965B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48CE-B0A8-4D49-BF32-7B2C5371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0BD-AC1B-4E05-99B1-F151B00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D495-5609-4D40-9360-EB11D113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B550-BCA5-45F3-9FE4-1474347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CF06-1946-45A9-9B76-D9DCB5D2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1447-7E8E-4B76-89BA-183B434D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4F0-07F6-4D1B-B061-8A6823E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992-B0E8-4201-ADD4-CBCA6909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D53-345E-47F1-B8B2-E160861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5B4-4CFB-4456-A965-2C3175D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1BF-0D81-499D-A499-B469CD0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5518-ABB7-464C-8D7E-4626F0CC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19E0-C694-43A0-B50E-25855344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AF0-4911-4F41-B3AB-93B123D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3D0-5120-43BC-99E2-F97F6D22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C33-FD7D-4886-ACBC-8F624A8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EE-8A15-4EB7-9B4F-63B8DF39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32A-274E-4A5C-A717-5A92A8B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463-4E5E-4B70-9FDE-23882A5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947-29FF-4202-A31A-DBC0A9A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4677-BE61-4D6E-95DF-ECE70C6FE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86A-06BF-4633-8114-ECB0977DD55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Concepts of Medical Anthropolo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jaak van der Ge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Anthr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of Amsterd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ultural anthropology - Medical anthropolog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instr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being in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production of mea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y in times of pe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ck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ene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: rupture with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us of crisis, chaos, danger, s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as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pon of res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Explanatory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. etiology (why? because of what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. onset of sympt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. pathofysi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. course of sick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reatment (what to do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(Kleinman 1980:105; Helman 2000:85-8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70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ness explan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attributed to the work of a person or conscious agent; someone is bl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istic explan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lness is not attributed to a person or conscious agent: it just happens, like a natural phenome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amp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9192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are not just cultural; they can also have a (hidden) social or political mean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uralistic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turalistic expla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it satisfactor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who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it provide a starting point for 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llness explanations express social and other interests of those who produce the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personalistic or naturalistic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hropologis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istic and naturalistic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a more “primitive” view of illness causes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is not more “cultural” and less “scientific” than naturalis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istic and naturalistic views do not exclude one another: they often occur toge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0526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Tahoma"/>
              </a:rPr>
              <a:t>Therapy management group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125360"/>
            <a:ext cx="779292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/ </a:t>
            </a:r>
            <a:r>
              <a:rPr b="0" i="1" lang="nl-NL" sz="3600" spc="-1" strike="noStrike">
                <a:solidFill>
                  <a:srgbClr val="333399"/>
                </a:solidFill>
                <a:latin typeface="Tahoma"/>
              </a:rPr>
              <a:t>in</a:t>
            </a: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 medicine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of medicine: outside perspective / theoretical / critical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thropology in medicine: ‘embedded’, applied, ‘useful’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annot be separated howeve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Overview lec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ical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of illness and of health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ree sectors of health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Disease vs ill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ult. anthrop. vs medical anthr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xplanator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wo ‘types’ of expla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Therapy managemen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hropology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/ </a:t>
            </a:r>
            <a:r>
              <a:rPr b="1" i="1" lang="nl-NL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ical perspective on medical issu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edical   vs   anthropolog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ing (qua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(and et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ve (quali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uali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Anthropology of health/illness and of health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1168560" y="1987560"/>
            <a:ext cx="5995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/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n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llnes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= socio/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thropology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U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s / eti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plura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apy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tioner-patient relation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Three sectors of health c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258920" y="1884240"/>
            <a:ext cx="6842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ISEASE     VS     ILLNES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ru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ration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2:33:27Z</dcterms:modified>
  <cp:revision>37</cp:revision>
  <dc:subject/>
  <dc:title>Meanings of growing old Care of elderly people</dc:title>
</cp:coreProperties>
</file>